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31.xml" ContentType="application/vnd.openxmlformats-officedocument.theme+xml"/>
  <Override PartName="/ppt/theme/theme43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notesMasterIdLst>
    <p:notesMasterId r:id="rId44"/>
  </p:notesMasterIdLst>
  <p:sldIdLst>
    <p:sldId id="256" r:id="rId45"/>
    <p:sldId id="257" r:id="rId46"/>
    <p:sldId id="258" r:id="rId47"/>
    <p:sldId id="259" r:id="rId48"/>
    <p:sldId id="260" r:id="rId49"/>
    <p:sldId id="261" r:id="rId50"/>
  </p:sldIdLst>
  <p:sldSz cx="9144000" cy="6858000"/>
  <p:notesSz cx="9942513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notesMaster" Target="notesMasters/notesMaster1.xml"/><Relationship Id="rId45" Type="http://schemas.openxmlformats.org/officeDocument/2006/relationships/slide" Target="slides/slide1.xml"/><Relationship Id="rId46" Type="http://schemas.openxmlformats.org/officeDocument/2006/relationships/slide" Target="slides/slide2.xml"/><Relationship Id="rId47" Type="http://schemas.openxmlformats.org/officeDocument/2006/relationships/slide" Target="slides/slide3.xml"/><Relationship Id="rId48" Type="http://schemas.openxmlformats.org/officeDocument/2006/relationships/slide" Target="slides/slide4.xml"/><Relationship Id="rId49" Type="http://schemas.openxmlformats.org/officeDocument/2006/relationships/slide" Target="slides/slide5.xml"/><Relationship Id="rId50" Type="http://schemas.openxmlformats.org/officeDocument/2006/relationships/slide" Target="slides/slide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/>
          <p:nvPr/>
        </p:nvSpPr>
        <p:spPr>
          <a:xfrm>
            <a:off x="0" y="0"/>
            <a:ext cx="9943200" cy="68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9920" cy="339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dt" idx="127"/>
          </p:nvPr>
        </p:nvSpPr>
        <p:spPr>
          <a:xfrm>
            <a:off x="5633640" y="0"/>
            <a:ext cx="4310280" cy="339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 type="ftr" idx="128"/>
          </p:nvPr>
        </p:nvSpPr>
        <p:spPr>
          <a:xfrm>
            <a:off x="0" y="6465600"/>
            <a:ext cx="4309920" cy="339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 type="sldNum" idx="129"/>
          </p:nvPr>
        </p:nvSpPr>
        <p:spPr>
          <a:xfrm>
            <a:off x="5633640" y="6465600"/>
            <a:ext cx="4310280" cy="339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4E989B2-35CD-4E48-8FD5-559EA26958F4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62F0565-3BAC-436E-9B3B-D41E27048D53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CA2EC6D-76DE-4F98-B3BA-29804208845D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5B2568C-73B6-4BD8-9EBA-4877437AFD1B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790FB47-039F-46F1-BD71-1DF8568FAC18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266FCA3-848F-4A7D-BCE2-FC4A7E0AFFF5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E056C980-5284-4C83-AFF2-8B6D31566E6F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557-FC49-47B5-A012-2A253126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BEA-4E46-44FB-B338-D2DC32F8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9FD5E-B83B-408A-B3A6-5ACDEEF6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FEDB0-98F3-49E2-8580-0B0DCE5F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2E14D-94DA-448A-9BC3-3048EDFE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CDB61-BC67-4FC9-B0A3-FEC51188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2173A-E51A-4154-BD00-F7FEFAE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19B19-9349-46C9-9773-3D506E95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5E6F3-ACB0-4494-87EA-5DEA9324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E65A4-AC47-4B32-BCBF-F5D84D85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E19D9-0F13-4B8C-AF73-F0B52670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AA610-B09A-46E6-855C-B97D3282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383-3026-4420-9604-D29074D1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D3C29-5C0E-4D16-8EE8-D9AF2D9A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1E2B7-3D3B-483E-80F9-62CBD04E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32198-43EB-405B-9F51-527F2E71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E0335-778D-4E88-A858-B82F8419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21C66-6D3C-4D7F-AE73-E391AA5D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BC3F9-0B5E-4049-9859-44A6B41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D5864-D5F7-46FD-A706-AB154C5F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EB112-52E4-4A5D-8D5D-16299455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86BAC-0DDA-4A03-8BAA-742831D7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41F35-A2AC-4090-8CC9-90495F0B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2C2-C5A4-48BB-B02D-A0010039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FD0AE-6965-4166-A3A3-C5EA651C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06C4D-1341-480B-B5A7-684423CA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5D8A2-6279-4169-AEEE-9C31CED0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D601C-4664-425E-B3FB-4EFCABE1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00C7D-3C83-4AE4-83FA-C5A07D28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79F97-4E3C-4947-AF03-498BA2BD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E416-FB6A-4C52-8CE9-AA7F1887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F2B28-2C2D-4326-96C8-5E15152B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55F44-3210-40A6-B992-B63E4B5A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5BC8C-2004-4A2D-9C28-4D2AC0BF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F488-8195-47AC-9939-47CEA5694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41CC9-C903-422A-BECA-8DC696A3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24A8D-D5A4-4611-8231-3E27EBE8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0B773-E725-44C0-BB6D-D75852C1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F5E58-D94C-45B9-8569-FC666CDB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51C33-5AED-4BD3-92A0-7E0EDF43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A3813-5ABA-40FF-BD71-5328CABD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EDB2C-4DD2-41C6-8DA4-227EA1DA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23202-ECE1-4870-9FF4-91C507C4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E4CD3-C4BE-482F-BCA6-7C0A014B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90867-0AFC-4242-B414-47C2846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3453-14A7-4B23-9E7F-F184E8CF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0A73B-75A7-491A-A637-7AED351B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7C6A0-14BE-413C-92F9-6720F0B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48CB5-B60D-4FFA-89F1-F905CD36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C713F-BAA9-429B-AC78-CE2613F7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59807-5A28-4F5C-B724-5A14DB7C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53077-8CC6-4F27-A333-7037384F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D6278-935E-48CB-BB0C-AC2035E2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DEBC0-7A8E-4094-9E31-1DC608BE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1A223-B1D0-4B63-B6E8-18EAE52E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E9559-AA80-45C5-A63F-CE9FB1DE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393F-65E0-4F6D-B8BE-69888709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327A7-5C28-4349-88A1-FD1FB433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10A5B-F7AB-4E4A-9520-A869F9A6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33CBE-33DC-41F1-B887-1CF2267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47F20-D44A-4603-96BC-37B8EF2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CFDCE-FFF0-4791-875E-88C772C5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E9D5B-F187-422B-9CC5-D237FC9C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9536C-7FFA-4239-B4EA-4CFF16F1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035F1-AF80-4BC0-875B-6E4C7697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7E5B4-C8FD-4E89-8205-12E7160B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56BB8-0431-4CCB-8D1A-782E8589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FC9D-5D35-4240-B5C6-92BC3A1F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0A6C5-9266-41AD-AAA2-7A674589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6BA88-95C8-4617-B4BF-B203A69A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CEC5B-CE12-4620-9B88-697E1CD8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CA805-02B6-46A0-870F-182B012F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CFA53-A537-481B-9CB7-E17B897C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0400B-DA5C-4400-9413-E4F9EA4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B8263-9457-4C79-8B8B-926C025A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5DB5C-8A6B-41B7-8CE2-601475EE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12977-D921-43D7-B717-792CE69F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DD826-813D-4463-993B-A0DFF156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5615-5117-4C19-AB34-FC7ACF5A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4A23C1-A4E8-4563-8C3F-06CA6E3C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A0F8E-49AD-460B-AA19-D45E55F1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5F66E-33C6-47F9-ACFB-FA778B10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9AECB-293F-454F-99AF-1E297B9A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93AB8-56CD-49B9-A387-80D665BE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073DA-5A77-4F77-8164-E18EB6D2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3ADCA-39B5-4A51-B529-F03F8E19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084680-6F54-4139-9F7E-50BB0D8D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E06A2-472E-41C2-9742-A825446D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E485F-9C6D-4771-9758-DBCD2E2C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EEE9-071A-48C0-BE41-77B9AE52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E4F11-D633-4524-9616-953296F2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BCBF7-3764-4529-AEFD-939F4B86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94475-8C46-4538-8905-5A42F78D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0BFFB8-4097-425E-9284-250E8F33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2A668-A8CA-4FCA-98DB-AA44A1CF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50E28-82E4-4061-BE51-DA3B82A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71A5D-B807-4A07-98F3-4D2E1008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F7222-16F5-45EF-A52E-15CF847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2170F-1912-4BAC-9480-5EDD7215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D83CD3-5F98-485C-91E2-18A14673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BA23-85B9-455F-A5EC-9D530B9A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BD480-CF89-4739-A434-37B4AA14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84E3C-B00C-4FB1-874D-ABF8696C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BD735-7850-482A-ACBC-6E40A52B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FB990-8A57-49C8-802D-2A0D52FC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16B12-012E-4852-9508-96A3B749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70DC1-9980-47ED-B6B2-6163EE72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B48B1-A93D-448D-B754-E5857BA4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18454-9EEB-4556-9FD2-AC8721B6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465D7-A1BB-4965-A658-4998F8E1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40CE7-56B9-4B33-9222-54A727FB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84B-3AFE-48E5-9CEC-E82F4C7D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7292-860B-4858-AF8A-D20996EF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C3828-0FB7-4643-9D1F-B81E3BCE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45A5EB-80D1-4822-AC47-25CE8EED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56B56-ACDA-4601-852F-68CFD5A0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53D37-BF57-4327-B284-FE795D90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005F9-73F7-4A94-8B3A-DCAA9850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18184B-E68E-4EBC-89C0-CF8F093C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21FB5-2099-4320-A46E-8C70904C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E4610-2537-4436-8E44-16A2D1E7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ED712-E669-4BB3-9C4F-D2C9C6EC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DC3C3-94DB-4D58-B9DA-22D351B2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3F26-77D8-40F0-AE92-9419F38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894620-C51B-4086-96D2-5ADBFFE2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98AB4A-E109-4939-B66C-13C424BC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778E19-0675-494B-B6CC-C42C0487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2BC50-27A7-4B0B-BDC4-02C2A940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C1C03-44E8-4D8E-9702-612952AE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BEB22-2B1F-480C-B302-078E7F6D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EBFC43-7CEB-4C6F-BE4F-3416DEEB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B7706C-1CD4-4A7F-9FAD-CF71C62A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277524-A2DD-4C20-8AAF-A314D185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493AD8-A86A-4AE5-A1F4-3B69F654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7023-7284-40BF-AB78-7FEB1A12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C18C2-66B0-494A-AF95-3669349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45E5D7-1DCD-4368-BB46-3E67E032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39F478-0EDD-45C1-B485-F7343EDC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C07589-FC70-4E4B-B1C8-7D08F7E7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FB6C83-7302-4642-9EC4-D9B5BFA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B64DC-054B-4932-B0C5-A5995714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43E17C-8373-484A-81DE-903C77B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028AAC-D117-4503-BBFC-5D1E6AFF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25BDD2-C87D-4C26-AC90-9CE6EC643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BF3E3-126E-421A-80CA-0683A778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13F6-221A-4E3B-90EB-93A8F80D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E74462-69CB-49B7-866F-44F569A5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941116-C391-4CD7-BB06-6BC62A7B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383A5A-B47A-41E7-B014-DD312130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8E62A2-8435-478C-B22A-20D255D8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C3A5D7-B738-4233-A2AE-9DF3673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8CBF0F-61E2-47E3-B942-557FA4B3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249CD-61D0-4583-9D8C-F4743E8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4EBD8-9076-432A-90D8-6EE49328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C7384-8236-4A8B-A6B5-AB299824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77E0D8-0E10-4B20-ADF7-9E50CF8B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8EA9-F26C-423C-AF31-664A9299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9E3D64-D347-4554-9EB7-F929D6D9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8CCA3C-2054-4FF1-B13A-F32C293D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683C2-927D-47DC-9795-6A4104E0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D152CD-828A-4086-AB1E-2967D1E6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EB2D7C-2606-464E-B3BB-594C743A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786E6-CD45-45E6-8C4F-D58CF765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540394-729D-4328-B981-D49D18FA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5D2A7-7BDB-4D6C-9F1E-899F25D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18414-FCC7-4519-B559-E960B073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811754-FC7D-4B0B-8FFB-5BE8A0BA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649F-DFB0-46B1-A2C3-4DBEED1D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F93DC-CAF2-4B86-BA2B-ECC7CC35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563D97-8322-49D7-8420-741C9885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69A2C3-BF04-4D37-9C00-3252B3E8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6CCE78-F3FC-4EDF-BE76-1FBA58A6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ABD34B-58D7-46C2-95B0-B351AA57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46458C-A286-40D3-8FC5-E0155DCD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15BBDD-324D-4894-B293-FFB5FC37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C3F5DE-9C7F-4B3B-8A86-EB963478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F6128E-7BA1-497C-A5C0-B14BBFA2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C3D613-C10B-4138-A0EC-277CCDF5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5C2D-9C72-410B-93CD-BEA802FB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E3F995-17F6-468B-9239-74EBA288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EFB6C2-1587-4430-83F6-CE40159E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3C96A0-7B5C-4EC2-9BB4-5D32BB3F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C6064D-47C7-425E-BF2A-81AF299F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2BDFA1-3405-43B8-AEF8-0378DA4A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3D8B1D-B55E-45D1-B0B7-F19075EF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281FA4-9EBC-4F43-AA6E-637E00D9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FDFB9-26C6-4DCC-9069-5BBC539B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D91B53-E26E-4491-93E1-17AA4AF8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CB8814-6365-4BBE-ACCD-A1588140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EC6DF-D550-4601-9A48-4CEC1B61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291757-1F75-4F42-9C63-DD205AB8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B3F37B-17CA-44A1-A467-31686DBA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28AADA-E082-437A-8185-8E6B12E7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0C5169-CC90-482A-A2FA-26C2F6B0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102CF4-6231-4EB8-805E-C4FB2B4E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0E2753-8687-4597-A1A2-6410FD22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B55EC1-51D7-42AE-9255-240E6176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7CBBF7-1D51-46D7-B230-8677260A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78A820-CF40-4758-8C24-44A6E418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FDDBE6-EA91-4CB1-9226-D2EB507C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D361-398E-4F62-A1AE-FE914186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9601AA-82DE-4E81-9723-0CAAFD1A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3152E8-642E-4B64-944D-A064D89A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2C2D35-4955-427D-AEBC-FF093A5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30D3D5-3BF6-4E69-A65A-A9166FDF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A849EF-1DBC-410F-8CF2-C7878E9D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A303DD-D3C0-49C1-8ADE-D5026240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2AF663-9F3D-4A0D-8218-CDFA8271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66582E-A292-4CD7-90CB-D5DEA268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6E4566-4D89-4E0C-B0EF-564BB52D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E1EBE2-691F-4A14-945D-74534659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CC1E-805D-46EA-AC1F-C238E494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017791-78F7-4D3F-9B3E-79B471DE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A527C9-2610-4F92-9CD1-42C38244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05826C-DE08-4D4F-A9AF-6F83CCF9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E94824-386A-424B-91D5-FC212D7D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D959ED-4952-4D66-A1BB-BC149AC0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C8D6BC-779E-4C63-B9AA-D0D51048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ACFF94-8ECA-4F6F-8853-E99D37E8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84F741-36B9-4173-B0A8-12D6280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A38440-3678-4F94-962F-3B9729F1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8DF5FF3-0B41-4DC4-B1FD-4BAC917E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1E5-FCC6-4237-B62C-F734EFCC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BF92-99FE-4DF8-BA40-CFFE6CF4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93712E-7DD5-4EB3-A8FA-AEE2807C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9FD1AB-08AA-442E-A043-B67F815C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6ADFB0-6B86-4A83-8F61-EB4B8508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6C656F-F233-4F1C-850B-B77654E6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72606F-2FCF-40E1-9B9C-B2CD0C97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150153-E248-4005-8A1C-3B76B985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9A969B-681E-4B62-A52D-A1D088ED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1B0676-961E-40BC-937A-E9F2D05C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8C9530-14D1-4C3A-94B4-033CFD6D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65C415-E257-4DB6-BF21-CD0786FA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DE51-040A-4D3E-9D73-5C978C54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13BB65-BE20-4617-A271-FA5AFD68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E6F49D-1B71-458D-92E6-5EA3C859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062F3D-F012-4202-80AF-8D23CEC3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CC8527-43F5-4E5E-BC59-760C6FBE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F1D5B9-BE3C-457D-99B4-032312BA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96FC64-C4B4-4B99-A745-24BEC5F3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B4CCA4-26D4-4E6A-928A-7E6F7B5F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CE465A-7DE5-42D1-BDC6-14436D51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036F7D-7B2E-49C3-9D71-DF71F784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EDE29A-CBF6-4F20-994D-0C3564E0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D47D-EAA2-41B7-84D1-C230CE7B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752B2E-2278-4CE6-8698-DF79FF17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085FB3-08C4-44D5-BFF1-484F8854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FA00C3-C23A-4F2F-A81A-A017CA13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C986DC-75B5-4230-8C41-B3771220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3F9D6F-A3B7-4E5D-9434-9B0F8274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BB6679-AEE0-4027-B350-9848BC65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6BA373-E27C-4E4B-BBD5-39BE9ACB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0DBF38-85E6-4B77-882A-362A8439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60887D-E8D8-4B38-9B30-DF5E61AC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9C7717-2396-4AAB-A1A8-E59D4823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BB833-1B59-46CB-88FB-1B1C6D3B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62A3A6-5AF2-4289-9D0D-181C66C4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BE6A42-9B37-4135-A4A6-81D92F61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D59E6A-35DF-4243-9064-31D825BA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C9E75A-8026-4DC2-ADA6-8066206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562CE8-3245-441A-BB84-C2FAA99D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E242C1-2282-4471-AA39-21EE1F56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9D3ED2-F7D6-490B-B444-C7137A95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2FB611-064C-4519-BA5D-E045A3B8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B71575-38BF-4B3A-A1E0-32F07D9B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4B7A04-5583-4744-9C17-BD0A1018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7F28-DA92-4CBA-B91F-22F6C283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0D272C-E632-41CB-B3E0-6556F618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53EF07-9A46-404E-99EE-75781095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07F345-FC1E-4704-B19B-695978B3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DA46DB-9C3A-4B82-A6C0-84FB83BD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2141E2-7985-4671-8647-CC0FE651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A93A4E-78DC-4308-9CCB-CCF72C9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E7E158-E31D-4279-A183-CA41CA86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80C1CD-966A-413A-9018-E2F7B4D0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18A63B-C6E2-4FE6-A3E1-A79A3748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EB5C8B-A795-430C-B812-A7F1F6DD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03CB-BA68-4BE8-B3A7-E58E06FD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9E6768-22AB-42AF-B217-A00CA472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DFED72-06F3-4C01-8D64-5D651885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7136C4-9FF5-4A04-ACF9-C2FA9972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02424D-13ED-4DF6-A70F-5273EDA6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CC8932-A9AF-4D8A-A01C-AA95CB1F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288407-7E2D-4C74-8851-6CEEB21D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FEAA5F-E0D8-4506-8F04-5FF391CD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FC8EA7-8899-4B20-A088-1483D414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EBB786-ACF9-4CED-8071-FC4DBC2C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720584-F5E2-4968-9B42-298A2B48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5A5A-EE05-4F70-8499-31B15254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6E46AA-3B2E-4527-BC50-A87BDE3D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A4AC93-9764-4E41-9AD6-75E1AAC4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A3CA30-F902-4651-96DC-931CF400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5450BA-FE02-4D33-B49F-13A57173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0FFB73-BAA0-4B06-B1B5-1B4D854A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123F75-EBB0-4980-BE52-29238506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F75011-76A0-4DD1-B98B-34A061E0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47EE2D-E4E0-405D-8AB7-B6BAAA9B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DD94A7-1FFB-46AB-942A-B8C685F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34A84A-9296-467B-9F8F-B6A183FB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3DA7-0510-4FEF-BF1E-D3632D5F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9E7193-6BDB-453E-9DC0-FDEF79AA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BAB974-571B-4BFF-8171-615FF62A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ECFC83-A374-49CE-9216-3C058D84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28385D-D045-4DA7-9C2E-367D9F55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18E3DF-FC0F-45F6-81AF-AF04521F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57A2BB-AC28-4E9B-9085-4E38129A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F88A8E-F777-41A2-8244-21675F3D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0D5C34-DE51-433A-9D9F-D2A62F6E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06E3F9-4AC8-4CE8-9D78-D2A975FC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B967CC-CAD8-44E6-907A-6362254C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1C5E6-7584-4519-A9B7-DCBC0E20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67242F-2D27-4BE9-8C46-AA0A1DD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3B9F35-1E91-401E-8A8C-0886320E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DF0D64-5378-4C48-9F88-CBAC5BF0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9B7BB2-2B44-4523-854C-8FB56788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B8F4F6-AC83-45EE-96CB-A8F33750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412320-8D97-409F-80D9-586EF689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A118D5-D256-445C-95C2-ED32FB10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5B31D9-FB03-4508-BB83-ABCF590E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998D67-411D-414A-ACA4-555A7758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1A6A1D-4FBF-4410-ACCE-C90EE6FC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ADD55-8D12-4206-9624-4F194873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F6F3B1-E44E-4E2C-9BF7-6605A7D9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B33664-E40E-4291-8ED0-BAA75E22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9CD868-89B2-4714-856D-78B5D31B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F04085-988A-4860-B7C7-1A4DDB90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3353BB-4E75-4120-A873-DD680AED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A267A8-2F20-45BA-A235-44918B0F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815A85-EC2B-41FA-BC55-B6441BD9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BF8913-4DCE-4207-9FE4-D85D73B4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043CC48-3DCB-41E0-AB3A-A782C603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F190F0-E9CE-4D2F-948F-193AC720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632-3941-4FFA-A7B4-80D69337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2280E-9C5A-48F5-8AFA-DA96D147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8AC3DF-4367-4599-8EA0-A57EFF52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479565A-01AA-49D2-9CF5-957C8E61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066BC2-16FB-4E59-ABA5-885ADEC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03DBA2-AE0C-4F76-83BF-4AF94E6B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36CBB5-5D6A-4AC7-9940-3A576128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7AC4C8-E152-4A0B-A106-543B08B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8E843D-BD06-4178-80E5-CB07DF94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1C897F-53BA-42EC-9120-4D654B00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358246-EE12-48A7-8235-DB7B6388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970172-ABC2-4056-8448-68C519C0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0739-C0A7-4E38-AD8E-85146262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2BF41E-D250-4266-BD0E-8B6884AC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14F440-B457-47BA-90F3-91516DEB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4523BE-E708-46C4-9F3C-A08F37E8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055B43-BFC8-4559-8635-744FD886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5BCFA0-CEF6-4D58-BF12-FB58AE2A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811CEC2-806A-4130-97F4-1A118BE9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03E8D9-88BC-4094-877C-FA52C175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9F2E43-0E5B-4110-B67C-B300E608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CDD573-C892-47CC-8EDC-FB95C171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DDD410-3ACD-43A7-82D5-E0B6E504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D89E-413E-4DAA-A666-0713A1F7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5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6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0B6CE0-5824-4137-93C9-911FD347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64F168-8A23-4578-8C07-6A142211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F35650-F24D-418E-9017-6DE4782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195449-9F87-4190-AA64-EF184CFF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023887-5A6C-446A-9D0B-AD1A94C7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1B2117-A213-467A-92E9-36C1D13C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B902D4-A795-42BD-98B1-73FC08E8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799C3B-D6F8-4A53-9424-060374F9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82A996-C57B-43C8-B78C-E090AA32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44F42C-152B-4CED-AAC5-ADEC359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3A46-9BF3-4FDF-A63F-94A68E60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29FC5F-B38A-4A4B-90FD-B3EB09B3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109FA0-1D20-478C-AF12-71247391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FA11A0-7798-425E-BA85-176CBEC4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D1D3FD-B848-44FC-9B35-82DE97EC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D091C4-772C-4523-9EDC-DDCAD1E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38FE91-17F8-4768-BE89-2BCEEE3E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35C29B-2515-4F33-8E49-B5B032B2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06508C-0BA2-4B73-9A01-49F5EA35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C93727-53C8-440B-9855-EC6399CE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EFE1D8-C007-4D15-89B1-C074B5FF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EFFB-AFE5-478D-8BC7-45410BB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CBBDAF-9B34-4448-97EB-07F0D338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B5B3DDD-18CD-4550-981E-E82418AE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601236-EDD9-4F86-A180-8CD1A1FD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54DD41A-6CCE-4555-AADE-B1A2341A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BB52E9-C34F-4999-8A98-488DDFFF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D32B5B-BEA9-4C60-AEA3-20315FE3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6925BA-34EB-40C8-9B16-583ABE2C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1BF2C0-7F34-4B71-9599-61B1405A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CA0ABE-DD28-4C9C-86D0-D8449342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77E2197-02C7-47D2-A1F1-E47B1461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0958D-BCC1-4FDE-98C6-6B5C29F6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175FA7-CBC9-4C3A-A52C-53679803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EF755B-B275-4339-9081-F1581827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0B111C5-96EC-444A-9B09-C45F9684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C5CB04-949C-4CBD-A9ED-DDB68EA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5F6DF1-873B-4D46-A57E-02BEFA50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29084B-C681-45F9-8C8B-27229F1D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D69815-236B-4453-BA3D-53163588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CF4F596-2783-4DD7-B9F2-18B0749A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7D82995-3C26-498E-978C-96B5F8D9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672A8B-A35C-492E-80C8-A3B3E5B6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CFCE-BD0C-4569-964F-D7D1C1C1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CA3E6A-2C72-4849-9989-5424C791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114FF97-9554-4115-B54E-42B42CC2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1D59FCC-B8E8-492F-8A14-E757282B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BB6999-C332-433C-8C68-E0651543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F0C7DE-D297-43FA-B3FF-8740DDD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55DC26-D323-43A1-BA64-0D712422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2D27C3-08DE-4B55-A295-4C009A42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C51EC9-A21D-4170-9FA6-736A56D9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455917E-1527-4AEE-B125-EC59998C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9D934C-BDF4-422B-8F2E-120B9C29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65E8F-B030-4913-8EF6-9D17E888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5CDA61A-A69D-49B5-8B4B-5BC02E12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A32D73E-5BDE-40F4-9225-6353FF9B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5856B03-59DA-46C8-9B6A-346908F1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D348EB4-68B9-4E52-A9DC-24066516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E662F3-479D-44CC-9468-978FBE81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F5CD54-23DD-4D60-818F-51832320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24CF918-FC03-4474-BE0E-07236123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76B366A-C1DB-4588-9529-FD395AF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A34C64-737E-4CE0-B3BB-3EF91816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80BAAD4-EB72-4D0D-825A-8E25728A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933B6-5EBB-42D3-9C81-EF67D98C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0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1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2A3C3A-5315-4EBB-9637-0C423A78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BF7ECE-6C67-4FA6-8028-A6D87F1D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8553B4-0098-42C5-9F4D-4E2A59AB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40C28F-293E-451D-8161-26A08677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4A06DF-2AD6-44FB-A39F-54B56E5B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7142CD-7815-471D-9C2E-F62F91BD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9CBE81-CBB3-467A-B560-09B1A888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0AE3C6-658F-4262-A550-EFB85CA3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7BECF4F-6CCC-4561-893F-12B56688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8CBCD86-5425-403E-A48E-CE841F39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AB80C-1641-4604-B136-F159414F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F245BA0-F042-4F26-A4EC-AE1349E6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9CDB181-E3FF-4C98-B4E1-0902C5DA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B29A203-AA9E-4DFC-8608-898D264D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932CF8-6276-44B7-9640-0E5FDBA8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99BD41-5958-4BA3-8D3D-657023A6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A5F749-764D-4B72-9735-2E2A2751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B78773-98B2-440C-ABBB-97DC581C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E3E7B1-EE1B-4031-8A45-449F2E52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1A688E-4723-4D31-9648-1C9CA26E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9A6855-3C0E-4354-8ABE-81FA31F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1DD-8C18-4E96-948A-309B56C2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4DDAD-4460-4A85-81B4-C2327E55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FC6E88-A71E-4150-9A84-90D3D203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8E4270-B0B2-401C-B249-D1A5620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7895E30-BD1E-4004-981D-2A3F4335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7EA4AA8-9B89-4755-9D03-EE05DEDE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7A2A978-D899-4D64-AB77-4B21FCA4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4F546-48D6-437C-97DE-6ADD415E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FE638-DA32-44DD-A5FD-2DE06B82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14729-AC97-4AED-BFCC-D13FC6D5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495FC-6507-489F-9189-E64EA50F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AE387-255C-4A33-A25B-0A3452A5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38B0-876E-4CBE-BC4A-C1A28ECF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ACB96-87BB-45E8-AEBE-1A4ED27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4C36F-15A7-4775-93DC-652170F8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AE87-1BFE-4032-AF53-FC6407BA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8E6-BD3F-4031-B2AC-CD1BBBC0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731D2-DAA3-446B-8F63-65D88DF8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65142-6E67-435B-A3A6-A7740E6A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C4487-185D-43D3-A932-E1253788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16432-AC0A-44AD-B7F5-BD4864A3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4B816-F8CF-40BA-94E2-30441F04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5D0B9-AA78-4E19-8E20-A83FE55A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E40C0-1475-41DE-B15C-1C9D2AA4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D7EDD-E461-4701-8FDC-9549B5EE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360F8-137E-4E19-90E5-8426D0E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1E6B-B13C-4AED-999A-F77E233C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910-2AF3-4F69-A524-8D4B2320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B3BA6-EDAE-4F13-9999-2A69C68B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D3E37-B070-4638-B17A-E3063F24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CD8F1-504A-4A2F-877A-EEE8979B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61FB4-A785-4A9E-8998-27AFFA95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6E5B6-F695-4D3A-958D-A7E93F91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A3C3-EFAB-4125-B755-8A7356C5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26BCA-B22D-4F06-9387-9445D8AD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0E9C-FD99-46D9-888B-C91163BC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BC544-6E0C-4966-AA60-D08A4E3A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F4424-31EF-43FC-AB7B-51CDEE61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FA6-48B1-4A7C-B3CF-7BDECA16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84DFF-2092-4A42-8521-1393D9E3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85E5-7B44-4566-8E5E-357EA31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48D2C-3A18-465C-8C35-AD001126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BA061-FB8E-4B35-AF47-B235975C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8716B-B8EF-43C9-8D08-2DDEBE3B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EFBEA-2C3F-4D3C-9F01-171D6076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CF285-9E29-45B8-8EFD-43083EAB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1F39A-F573-41A2-8E8B-B9992621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95ADD-0B57-4727-AEAE-816035FD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BBDBE-95D2-43F9-9AEA-1415420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1CB-CD20-4AA2-8D6F-7BBA17C2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18687-2181-4350-89B7-1C172AF0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08987-0AC5-45A7-9135-D3650587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061EC-FA07-444F-8E62-610363C6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9C828-94D1-4EEC-95D9-5F60E197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8C134-B56C-4A94-89BE-B9699875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F65EC-143E-41C7-9322-14318451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89157-7920-4355-A556-9371730D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4434B-01C1-456B-A630-45851EFE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92850-5F8F-497A-B35E-E9A895A7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D4BA5-A98F-49C6-A625-46C7AC8C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F10B-DBA9-4D0C-A568-F60E775A0C01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E77F-579E-4D5B-B944-C34403E221C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382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7A6E-8977-4F21-B4D5-A7F13DE800AE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9CF8-9BDC-4773-9F54-DE624FE615F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425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30C3-47B3-4F68-BD45-06EB938E689B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E5DD-F196-4889-9C57-FA5ACC73F28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468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1122-9BFA-4804-9B18-618FC44E1E4E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401D-4CD6-4249-ADEE-69985B4F981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511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CBC1-62F2-450E-8893-2D6DF0FA23A5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2D47-5CF7-49A4-9F43-8F984FEF16C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554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DFC4-734B-4365-A1A3-B6745928B86B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06ED-D3AF-4184-AB63-1932575410A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F12D-8364-4662-9F81-004B021D5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9C6D-D655-439F-98B7-B293F4277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C92C-B5E6-4550-83E9-3AB1E3159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D5C6-35CC-4648-B6B9-475A94E98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2062-962F-407E-BA0C-C5B966C1E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BF76-0DC6-4386-8465-10AEF548F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EA28-2AA3-4B9C-AB22-4C35CF1A5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5F43-A3F7-4E3B-96EE-2A6442961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DB7B-AD84-4749-ACC7-640E50B57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BB69-94B4-4AE0-B641-9DA0CA0BC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22F2-5D33-48EE-B748-F020684D2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4C06-930A-41AD-9D03-338F11570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9669-012F-4BF0-A36C-ACF14C68C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67D5-0FD9-4E20-8ECA-6F9FDB4F6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F4D5-6BFA-4ECB-890C-9EAAAD53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8832-BBD8-438C-9322-B53243154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1D59-5339-4529-9C92-C02F8D520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F4AE-8AFB-4D64-9566-DD9735479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5CC1-5637-4B2C-B21B-8123A8CB3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6530-1B5E-4310-9E18-0F87C1509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036C-7958-4D42-95BC-FF8A9EAF2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667D-B1D9-45F7-9778-9560FB0E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43D9-1ADB-4E2C-A9BD-64BE7F253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8339-DD61-4A20-B4D7-237157396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2083-EEA0-4506-9247-9D13CD6DB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F96C-BAA5-4CD6-92FB-DEC6980F6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7B3E-5946-4A27-99D9-3E7D9B817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1CD8-66AF-40FE-BBCD-7D0696963DF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7E3D-B2F8-4B1C-BB56-4E0EF94B92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8CB2-48C9-4F09-B5BA-2B6F3B9EE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37AC-EADD-4D82-81ED-6DBFBA800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3432-4CB6-49F4-A7CA-B7BF6601C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167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8561-DF64-4D5D-AB23-22CE6EC94B2E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7C36-247A-41D7-9894-4D95BBBA09A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210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4A18-5388-47AD-8F24-FE17F951C9BA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0511-8D49-4CA2-B274-D6E53673B74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253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8D7F-BB4D-490A-9CAB-48A72BA35435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0F67-826D-4FF9-ACA5-47048A1F8E5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296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2FF4-2948-42DD-8C3E-530403F7BB03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44BF-151E-464E-A517-4315FF1DB9F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339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5ED5-1DD0-435D-A11C-D8B91A6FBD3A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627A-2329-43BF-970F-A0F9EC463A6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4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09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4"/>
          <p:cNvSpPr/>
          <p:nvPr/>
        </p:nvSpPr>
        <p:spPr>
          <a:xfrm>
            <a:off x="1139760" y="765000"/>
            <a:ext cx="7871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 Narrow"/>
              </a:rPr>
              <a:t>River basin game</a:t>
            </a:r>
            <a:br>
              <a:rPr sz="4800"/>
            </a:b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Arjen Hoek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University of Twente, the Netherland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Picture 3" descr=""/>
          <p:cNvPicPr/>
          <p:nvPr/>
        </p:nvPicPr>
        <p:blipFill>
          <a:blip r:embed="rId1"/>
          <a:stretch/>
        </p:blipFill>
        <p:spPr>
          <a:xfrm>
            <a:off x="755640" y="936720"/>
            <a:ext cx="369720" cy="863640"/>
          </a:xfrm>
          <a:prstGeom prst="rect">
            <a:avLst/>
          </a:prstGeom>
          <a:ln w="0">
            <a:noFill/>
          </a:ln>
        </p:spPr>
      </p:pic>
      <p:pic>
        <p:nvPicPr>
          <p:cNvPr id="1753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2" descr=""/>
          <p:cNvPicPr/>
          <p:nvPr/>
        </p:nvPicPr>
        <p:blipFill>
          <a:blip r:embed="rId3"/>
          <a:stretch/>
        </p:blipFill>
        <p:spPr>
          <a:xfrm>
            <a:off x="1241280" y="3384720"/>
            <a:ext cx="333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3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3"/>
          <p:cNvSpPr/>
          <p:nvPr/>
        </p:nvSpPr>
        <p:spPr>
          <a:xfrm>
            <a:off x="539640" y="1857240"/>
            <a:ext cx="847404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9-15 farmers per river basin, competing for w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water is the limiting factor in crop grow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three compartments: upstream, midstream, down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we play 8 rounds (years); 15 minute per 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2"/>
          <p:cNvSpPr/>
          <p:nvPr/>
        </p:nvSpPr>
        <p:spPr>
          <a:xfrm>
            <a:off x="539640" y="152280"/>
            <a:ext cx="845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ff"/>
                </a:solidFill>
                <a:latin typeface="Arial Narrow"/>
              </a:rPr>
              <a:t>The set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8" name="Picture 27" descr=""/>
          <p:cNvPicPr/>
          <p:nvPr/>
        </p:nvPicPr>
        <p:blipFill>
          <a:blip r:embed="rId1"/>
          <a:stretch/>
        </p:blipFill>
        <p:spPr>
          <a:xfrm>
            <a:off x="157320" y="152280"/>
            <a:ext cx="311040" cy="723960"/>
          </a:xfrm>
          <a:prstGeom prst="rect">
            <a:avLst/>
          </a:prstGeom>
          <a:ln w="0">
            <a:noFill/>
          </a:ln>
        </p:spPr>
      </p:pic>
      <p:pic>
        <p:nvPicPr>
          <p:cNvPr id="1759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3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Rectangle 3"/>
          <p:cNvSpPr/>
          <p:nvPr/>
        </p:nvSpPr>
        <p:spPr>
          <a:xfrm>
            <a:off x="539640" y="1857240"/>
            <a:ext cx="847404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Make money with farming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cost: pumping w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gross benefit: market price for crops pro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net benefit = gross benefit – tot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2"/>
          <p:cNvSpPr/>
          <p:nvPr/>
        </p:nvSpPr>
        <p:spPr>
          <a:xfrm>
            <a:off x="539640" y="152280"/>
            <a:ext cx="845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ff"/>
                </a:solidFill>
                <a:latin typeface="Arial Narrow"/>
              </a:rPr>
              <a:t>The ai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Picture 27" descr=""/>
          <p:cNvPicPr/>
          <p:nvPr/>
        </p:nvPicPr>
        <p:blipFill>
          <a:blip r:embed="rId1"/>
          <a:stretch/>
        </p:blipFill>
        <p:spPr>
          <a:xfrm>
            <a:off x="157320" y="152280"/>
            <a:ext cx="311040" cy="723960"/>
          </a:xfrm>
          <a:prstGeom prst="rect">
            <a:avLst/>
          </a:prstGeom>
          <a:ln w="0">
            <a:noFill/>
          </a:ln>
        </p:spPr>
      </p:pic>
      <p:pic>
        <p:nvPicPr>
          <p:cNvPr id="1764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3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Rectangle 3"/>
          <p:cNvSpPr/>
          <p:nvPr/>
        </p:nvSpPr>
        <p:spPr>
          <a:xfrm>
            <a:off x="539640" y="1341360"/>
            <a:ext cx="847404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Gross benefit = Units of water abstracted x Benefit per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Benefit per unit of wa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50 euro /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Rectangle 2"/>
          <p:cNvSpPr/>
          <p:nvPr/>
        </p:nvSpPr>
        <p:spPr>
          <a:xfrm>
            <a:off x="539640" y="152280"/>
            <a:ext cx="845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ff"/>
                </a:solidFill>
                <a:latin typeface="Arial Narrow"/>
              </a:rPr>
              <a:t>Benefits of water abstr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8" name="Picture 27" descr=""/>
          <p:cNvPicPr/>
          <p:nvPr/>
        </p:nvPicPr>
        <p:blipFill>
          <a:blip r:embed="rId1"/>
          <a:stretch/>
        </p:blipFill>
        <p:spPr>
          <a:xfrm>
            <a:off x="157320" y="152280"/>
            <a:ext cx="311040" cy="723960"/>
          </a:xfrm>
          <a:prstGeom prst="rect">
            <a:avLst/>
          </a:prstGeom>
          <a:ln w="0">
            <a:noFill/>
          </a:ln>
        </p:spPr>
      </p:pic>
      <p:pic>
        <p:nvPicPr>
          <p:cNvPr id="1769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3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tangle 3"/>
          <p:cNvSpPr/>
          <p:nvPr/>
        </p:nvSpPr>
        <p:spPr>
          <a:xfrm>
            <a:off x="539640" y="1341360"/>
            <a:ext cx="84740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Total cost = Number of water units  x  Average unit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Average cost per unit of wa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increases as you and the other members of your group consume more wa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base cost of one water unit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1 euro in first 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1+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 euro in later rounds, whereby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 = depletion of groundwater storage from previous r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each additional water unit costs an additional 1 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2"/>
          <p:cNvSpPr/>
          <p:nvPr/>
        </p:nvSpPr>
        <p:spPr>
          <a:xfrm>
            <a:off x="539640" y="152280"/>
            <a:ext cx="845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ff"/>
                </a:solidFill>
                <a:latin typeface="Arial Narrow"/>
              </a:rPr>
              <a:t>Costs of water abstr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3" name="Picture 27" descr=""/>
          <p:cNvPicPr/>
          <p:nvPr/>
        </p:nvPicPr>
        <p:blipFill>
          <a:blip r:embed="rId1"/>
          <a:stretch/>
        </p:blipFill>
        <p:spPr>
          <a:xfrm>
            <a:off x="157320" y="152280"/>
            <a:ext cx="311040" cy="723960"/>
          </a:xfrm>
          <a:prstGeom prst="rect">
            <a:avLst/>
          </a:prstGeom>
          <a:ln w="0">
            <a:noFill/>
          </a:ln>
        </p:spPr>
      </p:pic>
      <p:pic>
        <p:nvPicPr>
          <p:cNvPr id="1774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3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Rectangle 2"/>
          <p:cNvSpPr/>
          <p:nvPr/>
        </p:nvSpPr>
        <p:spPr>
          <a:xfrm>
            <a:off x="539640" y="152280"/>
            <a:ext cx="845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ff"/>
                </a:solidFill>
                <a:latin typeface="Arial Narrow"/>
              </a:rPr>
              <a:t>Hydrology of the river bas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7" name="Picture 27" descr=""/>
          <p:cNvPicPr/>
          <p:nvPr/>
        </p:nvPicPr>
        <p:blipFill>
          <a:blip r:embed="rId1"/>
          <a:stretch/>
        </p:blipFill>
        <p:spPr>
          <a:xfrm>
            <a:off x="157320" y="152280"/>
            <a:ext cx="311040" cy="723960"/>
          </a:xfrm>
          <a:prstGeom prst="rect">
            <a:avLst/>
          </a:prstGeom>
          <a:ln w="0">
            <a:noFill/>
          </a:ln>
        </p:spPr>
      </p:pic>
      <p:pic>
        <p:nvPicPr>
          <p:cNvPr id="1778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26" descr=""/>
          <p:cNvPicPr/>
          <p:nvPr/>
        </p:nvPicPr>
        <p:blipFill>
          <a:blip r:embed="rId3"/>
          <a:stretch/>
        </p:blipFill>
        <p:spPr>
          <a:xfrm>
            <a:off x="611280" y="1073160"/>
            <a:ext cx="6408720" cy="3452760"/>
          </a:xfrm>
          <a:prstGeom prst="rect">
            <a:avLst/>
          </a:prstGeom>
          <a:ln w="0">
            <a:noFill/>
          </a:ln>
        </p:spPr>
      </p:pic>
      <p:pic>
        <p:nvPicPr>
          <p:cNvPr id="1780" name="Picture 27" descr=""/>
          <p:cNvPicPr/>
          <p:nvPr/>
        </p:nvPicPr>
        <p:blipFill>
          <a:blip r:embed="rId4"/>
          <a:stretch/>
        </p:blipFill>
        <p:spPr>
          <a:xfrm>
            <a:off x="611280" y="4659480"/>
            <a:ext cx="6408720" cy="1627200"/>
          </a:xfrm>
          <a:prstGeom prst="rect">
            <a:avLst/>
          </a:prstGeom>
          <a:ln w="0">
            <a:noFill/>
          </a:ln>
        </p:spPr>
      </p:pic>
      <p:sp>
        <p:nvSpPr>
          <p:cNvPr id="1781" name="Rectangle 3"/>
          <p:cNvSpPr/>
          <p:nvPr/>
        </p:nvSpPr>
        <p:spPr>
          <a:xfrm>
            <a:off x="684360" y="4095720"/>
            <a:ext cx="3024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ゴシック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 =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ゴシック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 / k,    k = 1.25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Rectangle 3"/>
          <p:cNvSpPr/>
          <p:nvPr/>
        </p:nvSpPr>
        <p:spPr>
          <a:xfrm>
            <a:off x="684360" y="3755880"/>
            <a:ext cx="30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dS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ゴシック"/>
              </a:rPr>
              <a:t>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 +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ゴシック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 –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ゴシック"/>
              </a:rPr>
              <a:t>out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–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12:29:52Z</dcterms:created>
  <dc:creator>A.Y. Hoekstra</dc:creator>
  <dc:description/>
  <dc:language>en-US</dc:language>
  <cp:lastModifiedBy>University of Twente</cp:lastModifiedBy>
  <cp:lastPrinted>2013-06-19T07:53:20Z</cp:lastPrinted>
  <dcterms:modified xsi:type="dcterms:W3CDTF">2013-09-16T08:10:07Z</dcterms:modified>
  <cp:revision>1057</cp:revision>
  <dc:subject/>
  <dc:title>PowerPoint Presentation</dc:title>
</cp:coreProperties>
</file>